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0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8.wmf" ContentType="image/x-wmf"/>
  <Override PartName="/ppt/media/image6.png" ContentType="image/pn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png" ContentType="image/png"/>
  <Override PartName="/ppt/media/image1.wmf" ContentType="image/x-wmf"/>
  <Override PartName="/ppt/media/image9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Verdana"/>
              </a:rPr>
              <a:t>Click to move the slide</a:t>
            </a:r>
            <a:endParaRPr b="1" lang="en-US" sz="5400" spc="-1" strike="noStrike">
              <a:solidFill>
                <a:srgbClr val="cccc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C2A8-BE6C-4C76-8147-1B2DAFCE7F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7.xml"/><Relationship Id="rId5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B37F-FE92-4FC1-886F-83D475F0ED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  <a:ea typeface="Courier New"/>
              </a:rPr>
              <a:t>Trátase, xa que logo, de conseguir cidadáns que utilicen as novas tecnoloxías, sendo coñecedores das súas implicacións sociais, culturais e das súas posibilidades, limitacións e aplicació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  <a:ea typeface="Courier New"/>
              </a:rPr>
              <a:t>Actualmente unha das principais preocupacións de tódolos sistemas educativos é incorporar á practica docente os novos medios tecnolóxicos. Dita incorporación adquire características particulares no caso dos medios didácticos baseados nas novas TCI, ó considerar as súas posibilidades para chegar a seren unha ferramenta de pensamento e de manipulación interactiva de inestimable valor para a aprendizax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  <a:ea typeface="Courier New"/>
              </a:rPr>
              <a:t>Ademais, os medios tecnolóxicos están producindo cambios nos coñecementos básicos que hoxe en día se requiren, polo que un ensino conectado coa realidade, debe reconceptualizar estes coñecementos e capacidades bás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588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0412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4764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588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0412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58920" y="0"/>
            <a:ext cx="763416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2588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04120" y="119664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4764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2588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04120" y="3866400"/>
            <a:ext cx="2359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58920" y="0"/>
            <a:ext cx="763416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386640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920" y="-93240"/>
            <a:ext cx="76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1196640"/>
            <a:ext cx="3576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47640" y="3866400"/>
            <a:ext cx="73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climantica.org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34560" y="764640"/>
            <a:ext cx="576360" cy="6093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258920" y="0"/>
            <a:ext cx="7885080" cy="47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080" y="0"/>
            <a:ext cx="682560" cy="469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0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7e7e7e"/>
                </a:solidFill>
                <a:latin typeface="Arial"/>
              </a:rPr>
              <a:t>Nº  </a:t>
            </a:r>
            <a:fld id="{73756A6E-A545-43A4-B4FF-DBF53AA14B51}" type="slidenum">
              <a:rPr b="1" lang="es-ES" sz="800" spc="-1" strike="noStrike">
                <a:solidFill>
                  <a:srgbClr val="7e7e7e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08000" y="223920"/>
            <a:ext cx="1611360" cy="21970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rot="16200000">
            <a:off x="-987120" y="3284280"/>
            <a:ext cx="3039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ccccff"/>
                </a:solidFill>
                <a:latin typeface="Verdana"/>
              </a:rPr>
              <a:t>Internet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4000" spc="-1" strike="noStrike">
                <a:solidFill>
                  <a:srgbClr val="ccccff"/>
                </a:solidFill>
                <a:latin typeface="Verdana"/>
              </a:rPr>
              <a:t>Webqu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3790800"/>
            <a:ext cx="4897440" cy="7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ccccff"/>
              </a:solidFill>
              <a:latin typeface="Verdana"/>
            </a:endParaRPr>
          </a:p>
        </p:txBody>
      </p:sp>
      <p:pic>
        <p:nvPicPr>
          <p:cNvPr id="46" name="" descr="climantica.or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921200"/>
            <a:ext cx="3203640" cy="193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336699"/>
              </a:buClr>
              <a:buSzPct val="70000"/>
              <a:buFont typeface="Verdan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5.gif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image" Target="../media/image1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../../Paco/Escritorio/wq/project-selection.html" TargetMode="External"/><Relationship Id="rId3" Type="http://schemas.openxmlformats.org/officeDocument/2006/relationships/hyperlink" Target="http://www.climantica.org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E:/PACO/CURSOS/cursos%20impartidos/CURSO%20LUGO%202007%20DIDACTICA%20XEOGRAFIA%20E%20TIC/CAP%20Santiago%202007/CAP%202%20TIC%20WQ.ppt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5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climantica.org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thematzats.com/radio/index.html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mantica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22360" y="2997360"/>
            <a:ext cx="6858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7200" spc="-1" strike="noStrike">
                <a:solidFill>
                  <a:srgbClr val="336699"/>
                </a:solidFill>
                <a:latin typeface="Footlight MT Light"/>
              </a:rPr>
              <a:t> </a:t>
            </a:r>
            <a:r>
              <a:rPr b="1" lang="gl-ES" sz="2800" spc="-1" strike="noStrike">
                <a:solidFill>
                  <a:srgbClr val="000066"/>
                </a:solidFill>
                <a:latin typeface="Footlight MT Light"/>
              </a:rPr>
              <a:t>Curso sobre competencia dix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227640" y="3068640"/>
            <a:ext cx="2627280" cy="210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5280" y="71280"/>
            <a:ext cx="3241800" cy="3070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27000"/>
            <a:ext cx="6948360" cy="3384720"/>
          </a:xfrm>
          <a:prstGeom prst="rect">
            <a:avLst/>
          </a:prstGeom>
          <a:solidFill>
            <a:srgbClr val="000066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-243000"/>
            <a:ext cx="482436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l-ES" sz="6600" spc="-1" strike="noStrike">
                <a:solidFill>
                  <a:srgbClr val="ffa449"/>
                </a:solidFill>
                <a:latin typeface="Footlight MT Light"/>
              </a:rPr>
              <a:t>As WebQu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83280" y="0"/>
            <a:ext cx="2160720" cy="32846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>
            <a:lum bright="12000"/>
          </a:blip>
          <a:srcRect l="6544" t="22466" r="0" b="0"/>
          <a:stretch/>
        </p:blipFill>
        <p:spPr>
          <a:xfrm>
            <a:off x="6443640" y="-27000"/>
            <a:ext cx="270036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rcRect l="-38743" t="0" r="32546" b="7728"/>
          <a:stretch/>
        </p:blipFill>
        <p:spPr>
          <a:xfrm>
            <a:off x="6084720" y="3068640"/>
            <a:ext cx="752760" cy="21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6360" y="3213000"/>
            <a:ext cx="9180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516720" y="3218040"/>
            <a:ext cx="2627280" cy="2109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3241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400" spc="-1" strike="noStrike">
                <a:solidFill>
                  <a:srgbClr val="c0c0c0"/>
                </a:solidFill>
                <a:latin typeface="Verdana"/>
              </a:rPr>
              <a:t>Santiago, Febreiro 2008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200" spc="-1" strike="noStrike">
                <a:solidFill>
                  <a:srgbClr val="9999ff"/>
                </a:solidFill>
                <a:latin typeface="Century Gothic"/>
              </a:rPr>
              <a:t>Francisco Castillo Rodríguez</a:t>
            </a:r>
            <a:r>
              <a:rPr b="0" lang="gl-ES" sz="1800" spc="-1" strike="noStrike">
                <a:solidFill>
                  <a:srgbClr val="9999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042920" y="3282840"/>
            <a:ext cx="657360" cy="652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7381800" y="5013360"/>
            <a:ext cx="136692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1690560" y="4005360"/>
            <a:ext cx="4753080" cy="100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s Webquest -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90400" y="1125360"/>
            <a:ext cx="72579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6600"/>
                </a:solidFill>
                <a:latin typeface="Verdana"/>
              </a:rPr>
              <a:t>Metodoloxía</a:t>
            </a: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 que ten as súa</a:t>
            </a: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s</a:t>
            </a: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ff6600"/>
                </a:solidFill>
                <a:latin typeface="Verdana"/>
              </a:rPr>
              <a:t>normas</a:t>
            </a:r>
            <a:r>
              <a:rPr b="0" lang="gl-ES" sz="2800" spc="-1" strike="noStrike">
                <a:solidFill>
                  <a:srgbClr val="ff6600"/>
                </a:solidFill>
                <a:latin typeface="Verdana"/>
              </a:rPr>
              <a:t> de construcción.</a:t>
            </a: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onsta 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de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6600"/>
                </a:solidFill>
                <a:latin typeface="Verdana"/>
              </a:rPr>
              <a:t>dúas </a:t>
            </a:r>
            <a:r>
              <a:rPr b="0" lang="gl-ES" sz="2400" spc="-1" strike="noStrike">
                <a:solidFill>
                  <a:srgbClr val="ff6600"/>
                </a:solidFill>
                <a:latin typeface="Verdana"/>
              </a:rPr>
              <a:t>partes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ben definidas,u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nha dirixida ó docente e outra ó  alumnado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ada unha delas debe axustarse a unha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serie de </a:t>
            </a:r>
            <a:r>
              <a:rPr b="0" lang="gl-ES" sz="2400" spc="-1" strike="noStrike">
                <a:solidFill>
                  <a:srgbClr val="ff6600"/>
                </a:solidFill>
                <a:latin typeface="Verdana"/>
              </a:rPr>
              <a:t>regras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89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s Webquest -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Na sección dirixida ó profesorado distínguense as seguintes partes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Introducción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6600"/>
                </a:solidFill>
                <a:latin typeface="Verdana"/>
              </a:rPr>
              <a:t>Destinatarios,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6600"/>
                </a:solidFill>
                <a:latin typeface="Verdana"/>
              </a:rPr>
              <a:t>Relación co currículum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6600"/>
                </a:solidFill>
                <a:latin typeface="Verdana"/>
              </a:rPr>
              <a:t>Implementación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valiación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onclusión 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réditos </a:t>
            </a:r>
            <a:r>
              <a:rPr b="0" lang="es-ES_tradnl" sz="2000" spc="-1" strike="noStrike">
                <a:solidFill>
                  <a:srgbClr val="000066"/>
                </a:solidFill>
                <a:latin typeface="Verdana"/>
              </a:rPr>
              <a:t>[...]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94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s Webquest -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[...]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Verdana"/>
              </a:rPr>
              <a:t>Na sección dirixida ó alumnado distínguense as seguintes partes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Introducción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Tarefa,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oceso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valiación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onclusión 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réditos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99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651640" y="3068640"/>
            <a:ext cx="215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3000" indent="-228600" algn="ctr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76720" y="3213000"/>
            <a:ext cx="14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3000" indent="-228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278136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321300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3645000"/>
            <a:ext cx="216000" cy="215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407664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24000" y="4508640"/>
            <a:ext cx="216000" cy="215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94172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24000" y="537372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920" y="-32040"/>
            <a:ext cx="763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Verdana"/>
              </a:rPr>
              <a:t>Claves para o seu de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13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500720" y="1916280"/>
            <a:ext cx="2627280" cy="210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8028000" cy="72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1569960" y="1125360"/>
            <a:ext cx="285768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948360" y="549360"/>
            <a:ext cx="1735200" cy="1844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ase de definició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8920" y="2203200"/>
            <a:ext cx="73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Contidos curriculare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-Tema da tarefa.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De carácter aberto que inviten á creatividade e  problemas con varias solucións posible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ncaixe na temporalización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Obxectivos de avaliación: pre-deseño da rúbrica.</a:t>
            </a:r>
            <a:r>
              <a:rPr b="0" lang="es-E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22" name="" descr="climantica.or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ffff"/>
                </a:solidFill>
                <a:latin typeface="Verdana"/>
              </a:rPr>
              <a:t>Apartados dunha Webqu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66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Dous obxectivos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Orientar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ao alumno sobre o que se vai atopar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Incrementar o seu interese pola actividade facendo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que semelle atractiva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, importante, divertida...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O seu deseño admite moitas fórmulas: </a:t>
            </a:r>
            <a:r>
              <a:rPr b="0" lang="gl-ES" sz="1800" spc="-1" strike="noStrike">
                <a:solidFill>
                  <a:srgbClr val="000066"/>
                </a:solidFill>
                <a:latin typeface="Verdana"/>
              </a:rPr>
              <a:t>(non esquezas que as WebQuests son multimedia</a:t>
            </a:r>
            <a:r>
              <a:rPr b="0" lang="es-ES_tradnl" sz="1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27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1066680"/>
            <a:ext cx="79250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É a </a:t>
            </a:r>
            <a:r>
              <a:rPr b="0" lang="gl-ES" sz="2400" spc="-1" strike="noStrike">
                <a:solidFill>
                  <a:srgbClr val="ff6600"/>
                </a:solidFill>
                <a:latin typeface="Verdana"/>
              </a:rPr>
              <a:t>peza clave do deseño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dunha WebQu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Verdana"/>
              </a:rPr>
              <a:t>Deben 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confluir as intencións curriculares –criterios de avaliación- </a:t>
            </a:r>
            <a:r>
              <a:rPr b="0" lang="es-ES_tradnl" sz="2000" spc="-1" strike="noStrike">
                <a:solidFill>
                  <a:srgbClr val="000066"/>
                </a:solidFill>
                <a:latin typeface="Verdana"/>
              </a:rPr>
              <a:t>e 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a estratexia de xogo de simul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Conectada de xeito explícito con algúns dos obxectivos de avaliación recollidos na rúbrica, co proceso e c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6705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ffffff"/>
                </a:solidFill>
                <a:latin typeface="Verdana"/>
              </a:rPr>
              <a:t>Elaboración da TAREFA.</a:t>
            </a:r>
            <a:r>
              <a:rPr b="1" lang="pt-PT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32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50920" y="76320"/>
            <a:ext cx="5064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ffffff"/>
                </a:solidFill>
                <a:latin typeface="Verdana"/>
              </a:rPr>
              <a:t>Tarefa 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1131840" y="1828800"/>
            <a:ext cx="75438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Una tarefa ben deseñada debe prop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ó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r unhas metas e uns enfoques de traballo absolutamente claros. Debe ser atractiva e, por suposto, factible no tempo previs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97000" y="3735360"/>
            <a:ext cx="7696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Debe </a:t>
            </a:r>
            <a:r>
              <a:rPr b="0" lang="gl-ES" sz="2400" spc="-1" strike="noStrike">
                <a:solidFill>
                  <a:srgbClr val="ff6600"/>
                </a:solidFill>
                <a:latin typeface="Verdana"/>
              </a:rPr>
              <a:t>aspirar a desenvolver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habilidades de pensamento distintas á memorística, fomentando o </a:t>
            </a:r>
            <a:r>
              <a:rPr b="0" lang="gl-ES" sz="2400" spc="-1" strike="noStrike">
                <a:solidFill>
                  <a:srgbClr val="ff6600"/>
                </a:solidFill>
                <a:latin typeface="Verdana"/>
              </a:rPr>
              <a:t>pensamento creativo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38" name="" descr="climantica.org"/>
            <p:cNvPicPr/>
            <p:nvPr/>
          </p:nvPicPr>
          <p:blipFill>
            <a:blip r:embed="rId4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42920" y="126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(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ffff"/>
                </a:solidFill>
                <a:latin typeface="Verdana"/>
              </a:rPr>
              <a:t>Tarefa 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ff6600"/>
                </a:solidFill>
                <a:latin typeface="Verdana"/>
              </a:rPr>
              <a:t>(...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Debe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promover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a discusión e a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elaboración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dalgún tipo de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 producto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coherente cos obxectivos curriculare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6600"/>
                </a:solidFill>
                <a:latin typeface="Verdana"/>
              </a:rPr>
              <a:t>Algo máis</a:t>
            </a:r>
            <a:r>
              <a:rPr b="0" lang="es-ES_tradnl" sz="2000" spc="-1" strike="noStrike">
                <a:solidFill>
                  <a:srgbClr val="000066"/>
                </a:solidFill>
                <a:latin typeface="Verdana"/>
              </a:rPr>
              <a:t> que contestar preguntas directas sobre feitos e conceptos ou copiar e pegar (os peores enemigos de “comprender”)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Verdana"/>
              </a:rPr>
              <a:t>Idealmente, a tarefa central dunha </a:t>
            </a:r>
            <a:r>
              <a:rPr b="0" i="1" lang="es-ES_tradnl" sz="2000" spc="-1" strike="noStrike">
                <a:solidFill>
                  <a:srgbClr val="000066"/>
                </a:solidFill>
                <a:latin typeface="Verdana"/>
              </a:rPr>
              <a:t>WebQuest</a:t>
            </a:r>
            <a:r>
              <a:rPr b="0" lang="es-ES_tradnl" sz="2000" spc="-1" strike="noStrike">
                <a:solidFill>
                  <a:srgbClr val="000066"/>
                </a:solidFill>
                <a:latin typeface="Verdana"/>
              </a:rPr>
              <a:t> é unha versión reducida do que as personas adultas realizan no seu traballo(Starr,2000)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44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780320" y="5013360"/>
            <a:ext cx="1022400" cy="15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ffff"/>
                </a:solidFill>
                <a:latin typeface="Verdana"/>
              </a:rPr>
              <a:t>O proces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6600"/>
                </a:solidFill>
                <a:latin typeface="Verdana"/>
              </a:rPr>
              <a:t>Proceso. Que facer e en que orde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A secuencia correcta dos pasos que o alumnado debe seguir para completar a tarefa.Pode incluír estratexias para dividilas en subtarefas, descrición dos roles,..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Non esquecer os “andamios”, consellos sobre cómo organizar e filtra información, cousas nas que se deben fixar, plantillas de axuda...</a:t>
            </a: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50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36360" y="6048360"/>
            <a:ext cx="4608360" cy="836640"/>
            <a:chOff x="-36360" y="6048360"/>
            <a:chExt cx="4608360" cy="836640"/>
          </a:xfrm>
        </p:grpSpPr>
        <p:pic>
          <p:nvPicPr>
            <p:cNvPr id="108" name="" descr="climantica.org"/>
            <p:cNvPicPr/>
            <p:nvPr/>
          </p:nvPicPr>
          <p:blipFill>
            <a:blip r:embed="rId1"/>
            <a:stretch/>
          </p:blipFill>
          <p:spPr>
            <a:xfrm>
              <a:off x="-36360" y="6048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05000" y="6356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Novas realidades, novos escenar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627280" y="765000"/>
            <a:ext cx="3528720" cy="922320"/>
            <a:chOff x="2627280" y="765000"/>
            <a:chExt cx="3528720" cy="922320"/>
          </a:xfrm>
        </p:grpSpPr>
        <p:sp>
          <p:nvSpPr>
            <p:cNvPr id="112" name=""/>
            <p:cNvSpPr/>
            <p:nvPr/>
          </p:nvSpPr>
          <p:spPr>
            <a:xfrm>
              <a:off x="2627280" y="765000"/>
              <a:ext cx="3528720" cy="922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62720" y="948240"/>
              <a:ext cx="317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Arial"/>
                </a:rPr>
                <a:t>Escenarios  colabora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12000" y="2131920"/>
            <a:ext cx="2160360" cy="718920"/>
            <a:chOff x="6012000" y="2131920"/>
            <a:chExt cx="2160360" cy="718920"/>
          </a:xfrm>
        </p:grpSpPr>
        <p:sp>
          <p:nvSpPr>
            <p:cNvPr id="115" name=""/>
            <p:cNvSpPr/>
            <p:nvPr/>
          </p:nvSpPr>
          <p:spPr>
            <a:xfrm>
              <a:off x="6012000" y="2131920"/>
              <a:ext cx="2160360" cy="7189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000" y="2274840"/>
              <a:ext cx="19443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Comic Sans MS"/>
                </a:rPr>
                <a:t>PROFE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940360" y="4078440"/>
            <a:ext cx="2376360" cy="1150560"/>
            <a:chOff x="5940360" y="4078440"/>
            <a:chExt cx="2376360" cy="1150560"/>
          </a:xfrm>
        </p:grpSpPr>
        <p:sp>
          <p:nvSpPr>
            <p:cNvPr id="118" name=""/>
            <p:cNvSpPr/>
            <p:nvPr/>
          </p:nvSpPr>
          <p:spPr>
            <a:xfrm>
              <a:off x="5940360" y="4078440"/>
              <a:ext cx="2376360" cy="1150560"/>
            </a:xfrm>
            <a:prstGeom prst="rect">
              <a:avLst/>
            </a:prstGeom>
            <a:solidFill>
              <a:srgbClr val="b2b2b2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9120" y="4307040"/>
              <a:ext cx="2138760" cy="368280"/>
            </a:xfrm>
            <a:prstGeom prst="rect">
              <a:avLst/>
            </a:prstGeom>
            <a:solidFill>
              <a:srgbClr val="b2b2b2">
                <a:alpha val="40000"/>
              </a:srgbClr>
            </a:solidFill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3333cc"/>
                  </a:solidFill>
                  <a:latin typeface="Comic Sans MS"/>
                </a:rPr>
                <a:t>ALUMN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042920" y="4006800"/>
            <a:ext cx="1368360" cy="1150920"/>
            <a:chOff x="1042920" y="4006800"/>
            <a:chExt cx="1368360" cy="1150920"/>
          </a:xfrm>
        </p:grpSpPr>
        <p:sp>
          <p:nvSpPr>
            <p:cNvPr id="121" name=""/>
            <p:cNvSpPr/>
            <p:nvPr/>
          </p:nvSpPr>
          <p:spPr>
            <a:xfrm>
              <a:off x="1042920" y="4006800"/>
              <a:ext cx="1368360" cy="1150920"/>
            </a:xfrm>
            <a:prstGeom prst="ellipse">
              <a:avLst/>
            </a:prstGeom>
            <a:solidFill>
              <a:srgbClr val="ffcc99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58920" y="4402080"/>
              <a:ext cx="107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BXECTOS APRENDIZAX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843280" y="3139920"/>
            <a:ext cx="2734920" cy="2376720"/>
            <a:chOff x="2843280" y="3139920"/>
            <a:chExt cx="2734920" cy="2376720"/>
          </a:xfrm>
        </p:grpSpPr>
        <p:sp>
          <p:nvSpPr>
            <p:cNvPr id="124" name=""/>
            <p:cNvSpPr/>
            <p:nvPr/>
          </p:nvSpPr>
          <p:spPr>
            <a:xfrm>
              <a:off x="2984040" y="3139920"/>
              <a:ext cx="2594160" cy="2376720"/>
            </a:xfrm>
            <a:prstGeom prst="rect">
              <a:avLst/>
            </a:prstGeom>
            <a:solidFill>
              <a:srgbClr val="666699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43280" y="3165480"/>
              <a:ext cx="2594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Propostas E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Taref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descubrim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s-ES_tradnl" sz="1600" spc="-1" strike="noStrike">
                  <a:solidFill>
                    <a:srgbClr val="ff0000"/>
                  </a:solidFill>
                  <a:latin typeface="Arial"/>
                </a:rPr>
                <a:t>Aprendizaxes sociai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2338200" y="4437000"/>
            <a:ext cx="649080" cy="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580000" y="4437000"/>
            <a:ext cx="432000" cy="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427280" y="2421000"/>
            <a:ext cx="1584360" cy="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7640" y="2421000"/>
            <a:ext cx="0" cy="71892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724280"/>
            <a:ext cx="503280" cy="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67640" y="2707920"/>
            <a:ext cx="0" cy="13683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781360"/>
            <a:ext cx="0" cy="13683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5589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Deseña e adapta escenarios  e dirixe o proceso de ensino-aprendizaxe: XESTOR COMUNIDADES DE APRENDIZ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084320" cy="115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ffff"/>
                </a:solidFill>
                <a:latin typeface="Verdana"/>
              </a:rPr>
              <a:t>Apartados dunha Webqu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ff6600"/>
                </a:solidFill>
                <a:latin typeface="Verdana"/>
              </a:rPr>
              <a:t>Recursos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As páxinas Web,que axudarán ao alumnado a realizar a tarefa; a preselección deste tipo de recursos evitará a navegación pola rede "sen rumbo"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Enlaces terminais (multiformatos)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Directorios temático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Non todo son recursos on-line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55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76360" y="981000"/>
            <a:ext cx="66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s matrices de valoración ou “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rúbricas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”: sistemas descriptivos de puntuación que guian os procesos en base a graos de consecución de criterios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Verdana"/>
              </a:rPr>
              <a:t>A avaliación nas WQ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60" name="" descr="climantica.org"/>
            <p:cNvPicPr/>
            <p:nvPr/>
          </p:nvPicPr>
          <p:blipFill>
            <a:blip r:embed="rId1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804000" y="3933720"/>
            <a:ext cx="1936800" cy="5922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908000" y="2133720"/>
            <a:ext cx="4897080" cy="2807640"/>
            <a:chOff x="1908000" y="2133720"/>
            <a:chExt cx="4897080" cy="2807640"/>
          </a:xfrm>
        </p:grpSpPr>
        <p:sp>
          <p:nvSpPr>
            <p:cNvPr id="264" name=""/>
            <p:cNvSpPr/>
            <p:nvPr/>
          </p:nvSpPr>
          <p:spPr>
            <a:xfrm>
              <a:off x="1908000" y="2695680"/>
              <a:ext cx="1542240" cy="2189880"/>
            </a:xfrm>
            <a:prstGeom prst="rect">
              <a:avLst/>
            </a:prstGeom>
            <a:solidFill>
              <a:srgbClr val="ffcc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3080" y="2695680"/>
              <a:ext cx="2885400" cy="2245680"/>
            </a:xfrm>
            <a:prstGeom prst="rect">
              <a:avLst/>
            </a:prstGeom>
            <a:solidFill>
              <a:srgbClr val="ffff99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9880" y="2133720"/>
              <a:ext cx="3085200" cy="393480"/>
            </a:xfrm>
            <a:prstGeom prst="rect">
              <a:avLst/>
            </a:prstGeom>
            <a:solidFill>
              <a:srgbClr val="3366ff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76040" y="3426120"/>
              <a:ext cx="1339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ASPECTOS A AVALI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8080" y="2133720"/>
              <a:ext cx="308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ESCALA CUAL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60200" y="348048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RITER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692360" y="5157720"/>
            <a:ext cx="698328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on especialmente axeitadas cando as tarefas propostas propician respostas diversas, caso das WebQuest.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ffff"/>
                </a:solidFill>
                <a:latin typeface="Verdana"/>
              </a:rPr>
              <a:t>Apartados dunha Webqu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47640" y="1197000"/>
            <a:ext cx="73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ff6600"/>
                </a:solidFill>
                <a:latin typeface="Verdana"/>
              </a:rPr>
              <a:t>Conclusión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Esta sección proporciona a oportunidade de resumir a experiencia, animar á reflexión sobre o proceso e xeralizar o que se aprendeu. Non é unha parte crítica de todo o conxunto, pero é moi recomendabl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74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O noso obxecto de intere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" sz="3200" spc="-1" strike="noStrike">
                <a:solidFill>
                  <a:srgbClr val="6666ff"/>
                </a:solidFill>
                <a:latin typeface="Verdana"/>
              </a:rPr>
              <a:t>A climatoloxía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495600" y="2362320"/>
            <a:ext cx="3597480" cy="356544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80" name="" descr="climantica.org"/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bordar a complexid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692360" y="766800"/>
            <a:ext cx="7200720" cy="5232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437080" y="6008760"/>
            <a:ext cx="34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2286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666ff"/>
                </a:solidFill>
                <a:latin typeface="Verdana"/>
              </a:rPr>
              <a:t>Fonte:Atlas Climático de Gali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286" name="" descr="climantica.org"/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184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visión sistém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185840" y="5778360"/>
            <a:ext cx="4608360" cy="836640"/>
            <a:chOff x="1185840" y="5778360"/>
            <a:chExt cx="4608360" cy="836640"/>
          </a:xfrm>
        </p:grpSpPr>
        <p:pic>
          <p:nvPicPr>
            <p:cNvPr id="290" name="" descr="climantica.org"/>
            <p:cNvPicPr/>
            <p:nvPr/>
          </p:nvPicPr>
          <p:blipFill>
            <a:blip r:embed="rId1"/>
            <a:stretch/>
          </p:blipFill>
          <p:spPr>
            <a:xfrm>
              <a:off x="1185840" y="5778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527200" y="6086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222880" y="2347920"/>
            <a:ext cx="228600" cy="1371600"/>
          </a:xfrm>
          <a:prstGeom prst="upDownArrow">
            <a:avLst>
              <a:gd name="adj1" fmla="val 50000"/>
              <a:gd name="adj2" fmla="val 119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174760" y="2880720"/>
            <a:ext cx="6019920" cy="360"/>
          </a:xfrm>
          <a:prstGeom prst="lin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74760" y="2881440"/>
            <a:ext cx="360" cy="761760"/>
          </a:xfrm>
          <a:prstGeom prst="line">
            <a:avLst/>
          </a:prstGeom>
          <a:noFill/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94680" y="2881440"/>
            <a:ext cx="360" cy="761760"/>
          </a:xfrm>
          <a:prstGeom prst="line">
            <a:avLst/>
          </a:prstGeom>
          <a:noFill/>
          <a:ln w="414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89160" y="3795840"/>
            <a:ext cx="1295640" cy="228600"/>
          </a:xfrm>
          <a:prstGeom prst="leftRightArrow">
            <a:avLst>
              <a:gd name="adj1" fmla="val 50000"/>
              <a:gd name="adj2" fmla="val 112829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37280" y="3795840"/>
            <a:ext cx="914400" cy="228600"/>
          </a:xfrm>
          <a:prstGeom prst="leftRightArrow">
            <a:avLst>
              <a:gd name="adj1" fmla="val 50000"/>
              <a:gd name="adj2" fmla="val 7963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98800" y="4024440"/>
            <a:ext cx="304560" cy="533160"/>
          </a:xfrm>
          <a:prstGeom prst="upArrow">
            <a:avLst>
              <a:gd name="adj1" fmla="val 50000"/>
              <a:gd name="adj2" fmla="val 4376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13800" y="4024440"/>
            <a:ext cx="304560" cy="533160"/>
          </a:xfrm>
          <a:prstGeom prst="upArrow">
            <a:avLst>
              <a:gd name="adj1" fmla="val 50000"/>
              <a:gd name="adj2" fmla="val 4376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402444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58920" y="4508640"/>
            <a:ext cx="7704000" cy="0"/>
          </a:xfrm>
          <a:prstGeom prst="line">
            <a:avLst/>
          </a:prstGeom>
          <a:ln w="604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2000" y="3500280"/>
            <a:ext cx="7632720" cy="0"/>
          </a:xfrm>
          <a:prstGeom prst="line">
            <a:avLst/>
          </a:prstGeom>
          <a:ln w="604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60760" y="1509840"/>
            <a:ext cx="198144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37080" y="1509840"/>
            <a:ext cx="1905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Footlight MT Light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Footlight MT Light"/>
              </a:rPr>
              <a:t>Realidade Fun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13000" y="3719520"/>
            <a:ext cx="1600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88960" y="3719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UBS.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60760" y="3719520"/>
            <a:ext cx="1600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37080" y="3719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UBS.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128000" y="3719520"/>
            <a:ext cx="160020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203960" y="3719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UBS.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70400" y="38718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IT/F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89560" y="3871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00"/>
                </a:solidFill>
                <a:latin typeface="Times New Roman"/>
              </a:rPr>
              <a:t>IT/F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74760" y="41450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9200" y="41450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9760" y="41450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36680" y="4633920"/>
            <a:ext cx="160020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65280" y="4633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pX//p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84800" y="4633920"/>
            <a:ext cx="160020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9360" y="4633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pY//p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51680" y="4633920"/>
            <a:ext cx="1600200" cy="4572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56600" y="46339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pZ//pr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46200" y="51577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SIÓN ESTÁTICA: Climatoloxía analítica-sepa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31960" y="41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SIÓN DINÁ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70200" y="1814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ISIÓN SISTÉ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s diferentes mirad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327" name="" descr="climantica.org"/>
            <p:cNvPicPr/>
            <p:nvPr/>
          </p:nvPicPr>
          <p:blipFill>
            <a:blip r:embed="rId1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6000" y="3789360"/>
            <a:ext cx="2376360" cy="2448000"/>
            <a:chOff x="5796000" y="3789360"/>
            <a:chExt cx="2376360" cy="2448000"/>
          </a:xfrm>
        </p:grpSpPr>
        <p:sp>
          <p:nvSpPr>
            <p:cNvPr id="330" name=""/>
            <p:cNvSpPr/>
            <p:nvPr/>
          </p:nvSpPr>
          <p:spPr>
            <a:xfrm>
              <a:off x="6156720" y="4941720"/>
              <a:ext cx="1862640" cy="1069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Interacció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Feed-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Acopla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84720" y="4005360"/>
              <a:ext cx="1943280" cy="66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MI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DINÀ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6000" y="3789360"/>
              <a:ext cx="2376360" cy="244800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195640" y="3789360"/>
            <a:ext cx="2305080" cy="2448000"/>
            <a:chOff x="2195640" y="3789360"/>
            <a:chExt cx="2305080" cy="2448000"/>
          </a:xfrm>
        </p:grpSpPr>
        <p:sp>
          <p:nvSpPr>
            <p:cNvPr id="334" name=""/>
            <p:cNvSpPr/>
            <p:nvPr/>
          </p:nvSpPr>
          <p:spPr>
            <a:xfrm>
              <a:off x="2465280" y="4724280"/>
              <a:ext cx="1501920" cy="1069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Exte / I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Matè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Enerx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11280" y="3933720"/>
              <a:ext cx="1692360" cy="66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MI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FLUX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95640" y="3789360"/>
              <a:ext cx="2305080" cy="244800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427640" y="1268280"/>
            <a:ext cx="2089080" cy="2378160"/>
            <a:chOff x="4427640" y="1268280"/>
            <a:chExt cx="2089080" cy="2378160"/>
          </a:xfrm>
        </p:grpSpPr>
        <p:sp>
          <p:nvSpPr>
            <p:cNvPr id="338" name=""/>
            <p:cNvSpPr/>
            <p:nvPr/>
          </p:nvSpPr>
          <p:spPr>
            <a:xfrm>
              <a:off x="4537080" y="2205000"/>
              <a:ext cx="1906560" cy="1077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Pres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Pas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Futuro</a:t>
              </a:r>
              <a:r>
                <a:rPr b="1" lang="ca-ES" sz="2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27640" y="1413000"/>
              <a:ext cx="1965240" cy="60948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MI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TEMPO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27640" y="1268280"/>
              <a:ext cx="2089080" cy="23781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732720" y="1268280"/>
            <a:ext cx="1655640" cy="2305080"/>
            <a:chOff x="6732720" y="1268280"/>
            <a:chExt cx="1655640" cy="2305080"/>
          </a:xfrm>
        </p:grpSpPr>
        <p:sp>
          <p:nvSpPr>
            <p:cNvPr id="342" name=""/>
            <p:cNvSpPr/>
            <p:nvPr/>
          </p:nvSpPr>
          <p:spPr>
            <a:xfrm>
              <a:off x="6948360" y="2205000"/>
              <a:ext cx="1193760" cy="10778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Ma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Micro</a:t>
              </a:r>
              <a:r>
                <a:rPr b="1" lang="ca-ES" sz="2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48360" y="1413000"/>
              <a:ext cx="1303560" cy="59184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MI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ESCA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32720" y="1268280"/>
              <a:ext cx="1655640" cy="230508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763640" y="1197000"/>
            <a:ext cx="2016360" cy="2376360"/>
            <a:chOff x="1763640" y="1197000"/>
            <a:chExt cx="2016360" cy="2376360"/>
          </a:xfrm>
        </p:grpSpPr>
        <p:sp>
          <p:nvSpPr>
            <p:cNvPr id="346" name=""/>
            <p:cNvSpPr/>
            <p:nvPr/>
          </p:nvSpPr>
          <p:spPr>
            <a:xfrm>
              <a:off x="1835280" y="2060640"/>
              <a:ext cx="1869840" cy="794880"/>
            </a:xfrm>
            <a:prstGeom prst="rect">
              <a:avLst/>
            </a:prstGeom>
            <a:solidFill>
              <a:srgbClr val="ccff99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 </a:t>
              </a: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Ele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800" spc="-1" strike="noStrike">
                  <a:solidFill>
                    <a:srgbClr val="3333cc"/>
                  </a:solidFill>
                  <a:latin typeface="Verdana"/>
                  <a:ea typeface="Arial"/>
                </a:rPr>
                <a:t>Propie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63640" y="1341360"/>
              <a:ext cx="1957320" cy="609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MI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a-ES" sz="1800" spc="-1" strike="noStrike">
                  <a:solidFill>
                    <a:srgbClr val="3333cc"/>
                  </a:solidFill>
                  <a:latin typeface="Verdana"/>
                </a:rPr>
                <a:t>ESTRUC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63640" y="1197000"/>
              <a:ext cx="2016360" cy="2376360"/>
            </a:xfrm>
            <a:prstGeom prst="rect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Verdana"/>
              </a:rPr>
              <a:t>Suxestións sobre tema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66"/>
                </a:solidFill>
                <a:latin typeface="Verdana"/>
              </a:rPr>
              <a:t>Procurar elixir como tema/s para a tarefa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143000" indent="-2286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Elementos que mostren a interacción entre dous ou varios subsistemas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(efecto sombra pluviométrica ou fohn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143000" indent="-2286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Causa de moitos efectos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(a latitude),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ou efecto de moitas causas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(a precipitación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143000" indent="-2286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Algún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elemento actual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que de seguro variará dentro de 50 anos (a temperatura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143000" indent="-2286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Algún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elemento que variou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desde 1940 ata hoxe (as condicións térmicas da túa cidade)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143000" indent="-2286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Un </a:t>
            </a:r>
            <a:r>
              <a:rPr b="0" lang="gl-ES" sz="2000" spc="-1" strike="noStrike">
                <a:solidFill>
                  <a:srgbClr val="ff6600"/>
                </a:solidFill>
                <a:latin typeface="Verdana"/>
              </a:rPr>
              <a:t>elemento que facilite a relación escalar</a:t>
            </a:r>
            <a:r>
              <a:rPr b="0" lang="gl-ES" sz="2000" spc="-1" strike="noStrike">
                <a:solidFill>
                  <a:srgbClr val="000066"/>
                </a:solidFill>
                <a:latin typeface="Verdana"/>
              </a:rPr>
              <a:t> (tipos de tempo, patróns estacionais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Preguntas pechada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Resposta única: reproducimos coñecementos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2484360" y="44280"/>
            <a:ext cx="6480360" cy="40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2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ffffff"/>
                </a:solidFill>
                <a:latin typeface="Arial"/>
              </a:rPr>
              <a:t>As claves dunhas boas preguntas. O deseño de taref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19280" y="2565360"/>
            <a:ext cx="73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Preguntas ab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Possibilidade de varias respost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- máis posibilidade de promover a </a:t>
            </a:r>
            <a:r>
              <a:rPr b="0" lang="ca-ES" sz="2000" spc="-1" strike="noStrike">
                <a:solidFill>
                  <a:srgbClr val="ff6600"/>
                </a:solidFill>
                <a:latin typeface="Verdana"/>
              </a:rPr>
              <a:t>construción de coñecemento</a:t>
            </a:r>
            <a:r>
              <a:rPr b="0" lang="ca-ES" sz="20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ca-ES" sz="2000" spc="-1" strike="noStrike">
                <a:solidFill>
                  <a:srgbClr val="000066"/>
                </a:solidFill>
                <a:latin typeface="Verdana"/>
              </a:rPr>
              <a:t>- máis possibilidades de adquirir </a:t>
            </a:r>
            <a:r>
              <a:rPr b="0" lang="ca-ES" sz="2000" spc="-1" strike="noStrike">
                <a:solidFill>
                  <a:srgbClr val="ff6600"/>
                </a:solidFill>
                <a:latin typeface="Verdana"/>
              </a:rPr>
              <a:t>habilidades de pensamento cre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692360" y="836640"/>
          <a:ext cx="6767280" cy="2087280"/>
        </p:xfrm>
        <a:graphic>
          <a:graphicData uri="http://schemas.openxmlformats.org/drawingml/2006/table">
            <a:tbl>
              <a:tblPr/>
              <a:tblGrid>
                <a:gridCol w="2520720"/>
                <a:gridCol w="1990800"/>
                <a:gridCol w="225576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NTERPRETAR ESTRUCT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NTERPRETAR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NTERPRE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2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LUX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Porque crees que  é necesario para .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Como explicas que houbera tantos .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Que pasaría se non...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Como sería si falla a...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Què pasaria s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Como explicas qu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2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Como comprobarias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5" name=""/>
          <p:cNvSpPr/>
          <p:nvPr/>
        </p:nvSpPr>
        <p:spPr>
          <a:xfrm>
            <a:off x="3048120" y="152388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152388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6000" y="58680"/>
            <a:ext cx="7920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600" spc="-1" strike="noStrike">
                <a:solidFill>
                  <a:srgbClr val="ffffff"/>
                </a:solidFill>
                <a:latin typeface="Arial"/>
              </a:rPr>
              <a:t>PREGUNTAS QUE AXUDEN A CONSTRUIR COÑECE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32000" y="3284640"/>
            <a:ext cx="73292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6476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66"/>
                </a:solidFill>
                <a:latin typeface="Verdana"/>
              </a:rPr>
              <a:t>Que pasaría se….o relevo Galego fose semellante á Mancha…Chovería igual, as temperaturas no inverno serían semellante, e non verá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647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6476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66"/>
                </a:solidFill>
                <a:latin typeface="Verdana"/>
              </a:rPr>
              <a:t>-Que pasará se, nas vindeiras décadas non...? (Escenarios de cambi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647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6476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66"/>
                </a:solidFill>
                <a:latin typeface="Verdana"/>
              </a:rPr>
              <a:t>Porque crees que é necesario para o noso territorio que choiva con regularidad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647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66"/>
                </a:solidFill>
                <a:latin typeface="Verdana"/>
              </a:rPr>
              <a:t>(Vulnerabi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s TIC na Esco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2133720"/>
            <a:ext cx="4897440" cy="4473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56360" y="720720"/>
            <a:ext cx="2057400" cy="1844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089080" y="1417680"/>
            <a:ext cx="2627280" cy="210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03280" y="1052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Book Antiqua"/>
              </a:rPr>
              <a:t>A WEB como e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-181080" y="6021360"/>
            <a:ext cx="4608360" cy="836640"/>
            <a:chOff x="-181080" y="6021360"/>
            <a:chExt cx="4608360" cy="836640"/>
          </a:xfrm>
        </p:grpSpPr>
        <p:pic>
          <p:nvPicPr>
            <p:cNvPr id="141" name="" descr="climantica.org"/>
            <p:cNvPicPr/>
            <p:nvPr/>
          </p:nvPicPr>
          <p:blipFill>
            <a:blip r:embed="rId5"/>
            <a:stretch/>
          </p:blipFill>
          <p:spPr>
            <a:xfrm>
              <a:off x="-1810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16028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400" spc="-1" strike="noStrike">
                <a:solidFill>
                  <a:srgbClr val="ffffff"/>
                </a:solidFill>
                <a:latin typeface="Verdana"/>
              </a:rPr>
              <a:t>Suxestións de escenarios</a:t>
            </a:r>
            <a:r>
              <a:rPr b="1" lang="gl-E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836640"/>
            <a:ext cx="691200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55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552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600" spc="-1" strike="noStrike">
                <a:solidFill>
                  <a:srgbClr val="000000"/>
                </a:solidFill>
                <a:latin typeface="Verdana"/>
              </a:rPr>
              <a:t>A organización dunha expedición a Terra de Fu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55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400" spc="-1" strike="noStrike">
                <a:solidFill>
                  <a:srgbClr val="3333cc"/>
                </a:solidFill>
                <a:latin typeface="Verdana"/>
              </a:rPr>
              <a:t>Eles, membros da expedición deberán familiarizarse coas características climáticas dalquel territorio</a:t>
            </a:r>
            <a:r>
              <a:rPr b="0" lang="gl-ES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55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400" spc="-1" strike="noStrike">
                <a:solidFill>
                  <a:srgbClr val="000000"/>
                </a:solidFill>
                <a:latin typeface="Verdana"/>
              </a:rPr>
              <a:t>(Aproximación ao coñecemento de dominios climáticos do Hemisferio sur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1800" indent="5526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gl-ES" sz="1600" spc="-1" strike="noStrike">
                <a:solidFill>
                  <a:srgbClr val="000000"/>
                </a:solidFill>
                <a:latin typeface="Verdana"/>
              </a:rPr>
              <a:t>Jasón e os argonauta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50920" y="3500280"/>
            <a:ext cx="66978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73332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600" spc="-1" strike="noStrike">
                <a:solidFill>
                  <a:srgbClr val="000000"/>
                </a:solidFill>
                <a:latin typeface="Verdana"/>
              </a:rPr>
              <a:t>As viaxes no tempo: Análise da variabilidade natural do sis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733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600" spc="-1" strike="noStrike">
                <a:solidFill>
                  <a:srgbClr val="3333cc"/>
                </a:solidFill>
                <a:latin typeface="Verdana"/>
              </a:rPr>
              <a:t>A pequena idade do xeo. O mosteiro de Acibeiro e o negocio do xe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7333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1400" spc="-1" strike="noStrike">
                <a:solidFill>
                  <a:srgbClr val="000000"/>
                </a:solidFill>
                <a:latin typeface="Verdana"/>
              </a:rPr>
              <a:t>Segundo a trama da novela “O nome da rosa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733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600" spc="-1" strike="noStrike">
                <a:solidFill>
                  <a:srgbClr val="000000"/>
                </a:solidFill>
                <a:latin typeface="Verdana"/>
              </a:rPr>
              <a:t>Por qué Un longo verán?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66"/>
                </a:solidFill>
                <a:latin typeface="Verdana"/>
              </a:rPr>
              <a:t>Rol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66"/>
                </a:solidFill>
                <a:latin typeface="Verdana"/>
              </a:rPr>
              <a:t>O noso servizo de espionaxe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3333cc"/>
                </a:solidFill>
                <a:latin typeface="Verdana"/>
              </a:rPr>
              <a:t>Seguindo a pista ao carbono... Ciclo bioxeoquímico do carbono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3333cc"/>
                </a:solidFill>
                <a:latin typeface="Verdana"/>
              </a:rPr>
              <a:t>A nosa axencia meteorolóxica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66"/>
                </a:solidFill>
                <a:latin typeface="Verdana"/>
              </a:rPr>
              <a:t>Cazadores de tormentas ou eventos extremos</a:t>
            </a:r>
            <a:r>
              <a:rPr b="1" lang="gl-ES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3333cc"/>
                </a:solidFill>
                <a:latin typeface="Verdana"/>
              </a:rPr>
              <a:t>No mes de outubro chegou, por primeira vez á augas peninsulares os coletazos, en forma de depresión tropical, dun furacán (o “Vince”, que se formou  preto das illas Madeira)…</a:t>
            </a:r>
            <a:r>
              <a:rPr b="0" lang="gl-E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gl-ES" sz="1800" spc="-1" strike="noStrike">
                <a:solidFill>
                  <a:srgbClr val="000066"/>
                </a:solidFill>
                <a:latin typeface="Verdana"/>
              </a:rPr>
              <a:t>A maleta do climatólogo: A nosa estación portáti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952360" y="1757520"/>
            <a:ext cx="6156360" cy="210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336600"/>
                </a:solidFill>
                <a:latin typeface="Tahoma"/>
              </a:rPr>
              <a:t>Graciñas pola 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336600"/>
                </a:solidFill>
                <a:latin typeface="Tahoma"/>
              </a:rPr>
              <a:t>vosa atención</a:t>
            </a:r>
            <a:endParaRPr b="0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3132000" y="4941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367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1258920" y="3068640"/>
            <a:ext cx="2322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16000" y="4646520"/>
            <a:ext cx="8028000" cy="13035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s WebQu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341360"/>
            <a:ext cx="59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6600"/>
                </a:solidFill>
                <a:latin typeface="Century Gothic"/>
              </a:rPr>
              <a:t>Unha Web qu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47" name="" descr="climantica.or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213080"/>
            <a:ext cx="2857680" cy="1447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2881440" y="1989000"/>
            <a:ext cx="2627280" cy="211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s WebQuest-defini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Unha actividade de investigación na que a información coa que interactua o alumnado provén total ou parcialmente de recursos da Internet”  </a:t>
            </a:r>
            <a:r>
              <a:rPr b="0" lang="gl-ES" sz="2400" spc="-1" strike="noStrike">
                <a:solidFill>
                  <a:srgbClr val="ff6600"/>
                </a:solidFill>
                <a:latin typeface="Verdana"/>
              </a:rPr>
              <a:t>(Dodge, 1995)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Unha </a:t>
            </a:r>
            <a:r>
              <a:rPr b="0" i="1" lang="es-ES_tradnl" sz="2400" spc="-1" strike="noStrike">
                <a:solidFill>
                  <a:srgbClr val="000066"/>
                </a:solidFill>
                <a:latin typeface="Verdana"/>
              </a:rPr>
              <a:t>WebQuest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é un tipo de actividade didáctica baseada en </a:t>
            </a:r>
            <a:r>
              <a:rPr b="1" lang="es-ES_tradnl" sz="2400" spc="-1" strike="noStrike">
                <a:solidFill>
                  <a:srgbClr val="ff6600"/>
                </a:solidFill>
                <a:latin typeface="Verdana"/>
              </a:rPr>
              <a:t>presupostos constructivist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da aprendizaxe e das  técnicas de traballo colaborativo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54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s WebQuest-defini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47640" y="1341360"/>
            <a:ext cx="73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Verdana"/>
              </a:rPr>
              <a:t>As Webquest non son unha ferramenta informática, senón unha </a:t>
            </a:r>
            <a:r>
              <a:rPr b="0" lang="es-ES_tradnl" sz="2800" spc="-1" strike="noStrike">
                <a:solidFill>
                  <a:srgbClr val="990033"/>
                </a:solidFill>
                <a:latin typeface="Verdana"/>
              </a:rPr>
              <a:t>metodoloxía</a:t>
            </a:r>
            <a:r>
              <a:rPr b="0" lang="es-ES_tradnl" sz="2800" spc="-1" strike="noStrike">
                <a:solidFill>
                  <a:srgbClr val="336699"/>
                </a:solidFill>
                <a:latin typeface="Verdana"/>
              </a:rPr>
              <a:t> de traballo </a:t>
            </a:r>
            <a:r>
              <a:rPr b="0" lang="es-ES_tradnl" sz="2800" spc="-1" strike="noStrike">
                <a:solidFill>
                  <a:srgbClr val="990033"/>
                </a:solidFill>
                <a:latin typeface="Verdana"/>
              </a:rPr>
              <a:t>intelectua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59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2781360" cy="228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s Webquest –orixinalidade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640" y="126972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0066"/>
                </a:solidFill>
                <a:latin typeface="Verdana"/>
              </a:rPr>
              <a:t>A súa </a:t>
            </a:r>
            <a:r>
              <a:rPr b="0" lang="gl-ES" sz="3200" spc="-1" strike="noStrike">
                <a:solidFill>
                  <a:srgbClr val="ff6600"/>
                </a:solidFill>
                <a:latin typeface="Verdana"/>
              </a:rPr>
              <a:t>orixinalidade</a:t>
            </a: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 reside en</a:t>
            </a:r>
            <a:r>
              <a:rPr b="0" lang="gl-ES" sz="3200" spc="-1" strike="noStrike">
                <a:solidFill>
                  <a:srgbClr val="000066"/>
                </a:solidFill>
                <a:latin typeface="Verdana"/>
              </a:rPr>
              <a:t> combinar con acerto</a:t>
            </a:r>
            <a:r>
              <a:rPr b="0" lang="es-ES_tradnl" sz="32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aprendizaxe significativ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O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traballo por proxectos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O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s xogos de simulación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O </a:t>
            </a:r>
            <a:r>
              <a:rPr b="0" lang="gl-ES" sz="2400" spc="-1" strike="noStrike">
                <a:solidFill>
                  <a:srgbClr val="000066"/>
                </a:solidFill>
                <a:latin typeface="Verdana"/>
              </a:rPr>
              <a:t>mundo de Internet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65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867280" y="549360"/>
            <a:ext cx="2276640" cy="180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Verdana"/>
              </a:rPr>
              <a:t>As Webquest –orixinalidade II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1574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6600"/>
                </a:solidFill>
                <a:latin typeface="Verdana"/>
              </a:rPr>
              <a:t>Rendabilizar o tempo</a:t>
            </a: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, centrando a actividade no uso da infor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2666880"/>
            <a:ext cx="720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Verdana"/>
              </a:rPr>
              <a:t>A partir d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unha tarefa atractiva  </a:t>
            </a:r>
            <a:r>
              <a:rPr b="1" lang="es-ES_tradnl" sz="2000" spc="-1" strike="noStrike">
                <a:solidFill>
                  <a:srgbClr val="ff6600"/>
                </a:solidFill>
                <a:latin typeface="Verdana"/>
              </a:rPr>
              <a:t>despliega procesos cognitivos de alto nivel:</a:t>
            </a:r>
            <a:r>
              <a:rPr b="1" lang="es-ES_tradnl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35002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72"/>
                </a:solidFill>
                <a:latin typeface="Verdana"/>
              </a:rPr>
              <a:t>Transformación d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440" y="4179960"/>
            <a:ext cx="590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72"/>
                </a:solidFill>
                <a:latin typeface="Verdana"/>
              </a:rPr>
              <a:t>Comprensión, comparación, elaboración e contraste de hipótese</a:t>
            </a:r>
            <a:r>
              <a:rPr b="0" lang="es-ES_tradnl" sz="2000" spc="-1" strike="noStrike">
                <a:solidFill>
                  <a:srgbClr val="000072"/>
                </a:solidFill>
                <a:latin typeface="Times New Roman"/>
              </a:rPr>
              <a:t>,</a:t>
            </a:r>
            <a:r>
              <a:rPr b="1" lang="es-ES_tradnl" sz="2400" spc="-1" strike="noStrike">
                <a:solidFill>
                  <a:srgbClr val="0000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515772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72"/>
                </a:solidFill>
                <a:latin typeface="Verdana"/>
              </a:rPr>
              <a:t>Análise-síntese, creatividade</a:t>
            </a:r>
            <a:r>
              <a:rPr b="0" lang="es-ES_tradnl" sz="2000" spc="-1" strike="noStrike">
                <a:solidFill>
                  <a:srgbClr val="000072"/>
                </a:solidFill>
                <a:latin typeface="Times New Roman"/>
              </a:rPr>
              <a:t>.</a:t>
            </a:r>
            <a:r>
              <a:rPr b="0" lang="es-ES_tradnl" sz="2400" spc="-1" strike="noStrike">
                <a:solidFill>
                  <a:srgbClr val="0000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11280" y="6021360"/>
            <a:ext cx="4608360" cy="836640"/>
            <a:chOff x="611280" y="6021360"/>
            <a:chExt cx="4608360" cy="836640"/>
          </a:xfrm>
        </p:grpSpPr>
        <p:pic>
          <p:nvPicPr>
            <p:cNvPr id="175" name="" descr="climantica.or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11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952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093080" y="549360"/>
            <a:ext cx="1295280" cy="83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s Webquest -orixinalida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47640" y="1196640"/>
            <a:ext cx="73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ara garantir a movilización destas funcións superiores da cognición, unha  boa WebQuest utiliza “</a:t>
            </a:r>
            <a:r>
              <a:rPr b="1" lang="es-ES_tradnl" sz="2400" spc="-1" strike="noStrike">
                <a:solidFill>
                  <a:srgbClr val="ff6600"/>
                </a:solidFill>
                <a:latin typeface="Verdana"/>
              </a:rPr>
              <a:t>andamios cognitivo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” (scaffolding)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9280" y="6021360"/>
            <a:ext cx="4608360" cy="836640"/>
            <a:chOff x="179280" y="6021360"/>
            <a:chExt cx="4608360" cy="836640"/>
          </a:xfrm>
        </p:grpSpPr>
        <p:pic>
          <p:nvPicPr>
            <p:cNvPr id="181" name="" descr="climantica.org"/>
            <p:cNvPicPr/>
            <p:nvPr/>
          </p:nvPicPr>
          <p:blipFill>
            <a:blip r:embed="rId1"/>
            <a:stretch/>
          </p:blipFill>
          <p:spPr>
            <a:xfrm>
              <a:off x="179280" y="6021360"/>
              <a:ext cx="124272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520640" y="6329880"/>
              <a:ext cx="32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Curso sobre </a:t>
              </a:r>
              <a:r>
                <a:rPr b="1" lang="es-ES" sz="1400" spc="-1" strike="noStrike">
                  <a:solidFill>
                    <a:srgbClr val="6666ff"/>
                  </a:solidFill>
                  <a:latin typeface="Arial"/>
                </a:rPr>
                <a:t>Competencia </a:t>
              </a:r>
              <a:r>
                <a:rPr b="1" lang="es-ES" sz="1400" spc="-1" strike="noStrike">
                  <a:solidFill>
                    <a:srgbClr val="cccc00"/>
                  </a:solidFill>
                  <a:latin typeface="Arial"/>
                </a:rPr>
                <a:t>Dix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51280" y="2708280"/>
            <a:ext cx="2959200" cy="3484440"/>
            <a:chOff x="3851280" y="2708280"/>
            <a:chExt cx="2959200" cy="3484440"/>
          </a:xfrm>
        </p:grpSpPr>
        <p:pic>
          <p:nvPicPr>
            <p:cNvPr id="184" name="" descr="Dibujo de O'Kif"/>
            <p:cNvPicPr/>
            <p:nvPr/>
          </p:nvPicPr>
          <p:blipFill>
            <a:blip r:embed="rId2"/>
            <a:stretch/>
          </p:blipFill>
          <p:spPr>
            <a:xfrm>
              <a:off x="3851280" y="2708280"/>
              <a:ext cx="295920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000760" y="5733000"/>
              <a:ext cx="171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O’Kif </a:t>
              </a:r>
              <a:r>
                <a:rPr b="1" i="1" lang="es-ES" sz="900" spc="-1" strike="noStrike">
                  <a:solidFill>
                    <a:srgbClr val="000000"/>
                  </a:solidFill>
                  <a:latin typeface="Times New Roman"/>
                </a:rPr>
                <a:t>Chat Natacha chat</a:t>
              </a: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 2005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1:48:23Z</dcterms:created>
  <dc:creator>xoanca</dc:creator>
  <dc:description/>
  <dc:language>en-US</dc:language>
  <cp:lastModifiedBy>fsonora</cp:lastModifiedBy>
  <dcterms:modified xsi:type="dcterms:W3CDTF">2008-03-02T19:37:11Z</dcterms:modified>
  <cp:revision>64</cp:revision>
  <dc:subject/>
  <dc:title>aventuras na web-lugo</dc:title>
</cp:coreProperties>
</file>